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2A9C-8871-43E6-875A-D2E87229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635-F7A8-49DF-9BAE-E49C91D6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694-515A-490F-B949-7BA063FF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718D-169E-4930-87A2-25AC2BE9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C21-2442-4E10-B9B4-F4FF536B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ED06-DE13-488B-9A45-281CC071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4ECC-8784-4597-AC5C-E9ED8830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859-714C-4CC9-BF74-0EEE6D3E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57D-7382-4E5B-BDF7-85C5A6F6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FAB9-3DD7-4DF5-A4C5-2B69F203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B8B6-AB80-42B8-8566-9E07080A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897-5119-4F70-9A8A-34E22455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6ADA-E964-4E2B-920B-0A5AFA984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me Travel Ag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nal project for this section will be to design an advertisement for a Time Travel Ag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ll be trying to get customers to come with your travel agency to visit Ancient R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ture of your Tim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of your Travel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descriptions (your catego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Slogan and phone number (not your real number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0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90920" y="152280"/>
            <a:ext cx="3962160" cy="66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90920" y="152280"/>
            <a:ext cx="2209680" cy="1660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743200" y="5943600"/>
            <a:ext cx="37339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1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Back to the Past!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3808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r. Dill’s Time Tri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1752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Join one of our tour groups on a trip to Ancient Ro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2362320"/>
            <a:ext cx="38862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Try foods completely different than to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o more pizza, have som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nails dipped in mil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Sore throat?  No probl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Walnuts will help, so get rid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of that cough medici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452760" y="-4010040"/>
            <a:ext cx="2238480" cy="148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all us now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8120" y="5334120"/>
            <a:ext cx="2895480" cy="4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Call us now! 410-WAY-BACK</a:t>
            </a:r>
            <a:endParaRPr b="0" lang="en-US" sz="1800" spc="1" strike="noStrike">
              <a:ln w="9360">
                <a:solidFill>
                  <a:srgbClr val="3333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SAMPLE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SAMPLE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8:51:13Z</dcterms:created>
  <dc:creator>bahebbl</dc:creator>
  <dc:description/>
  <dc:language>en-US</dc:language>
  <cp:lastModifiedBy>bahebbl</cp:lastModifiedBy>
  <dcterms:modified xsi:type="dcterms:W3CDTF">2010-04-30T18:51:32Z</dcterms:modified>
  <cp:revision>1</cp:revision>
  <dc:subject/>
  <dc:title>Time Travel Agency</dc:title>
</cp:coreProperties>
</file>